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78E-0C8D-4BD5-A10A-EB121466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5E6-CC20-408C-8D4F-DE682F22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01C-128B-4972-BBDB-D721E5D6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769-B2BF-4048-B9AA-44967269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2B42-6ACA-41A0-BF4D-C33EC205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C5DA-5A5A-43DC-8D54-4D35ED87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81F5-0C6B-4C5B-91A5-D385626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D120-8968-4972-8775-95F5A97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51DC-6184-4060-A633-07AC672B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FDA2-D4D2-4FA4-8701-736A089F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02E1-B5A7-47FE-8B5D-15C0177D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28F-352D-406C-9B93-C31920E6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ABDD-6D1C-41D8-8A08-0B5BD608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E1FF-CC9B-46B2-AC5B-7DBFD23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AC3E-3F5F-4685-9877-8361ACAE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1914-D802-44D3-8DB5-D35FD518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80C7-6B1D-44E0-BD06-5655162D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C16-3A2B-4529-99A5-C39B5124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788-63C7-4834-8DC0-6797D88B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391-6138-4DA6-A293-163694E6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798-493B-47EC-B922-D71A2ED0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743-C1EF-4348-8056-E36D3387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8286-9ADE-4908-B7C7-B652B426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33B-9AB8-4027-9040-D3CCB8E9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13CC-DE6E-4926-90AE-D02610BB233A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20B-063F-4866-9780-CB1C86F7FAB1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404640"/>
            <a:ext cx="7704000" cy="54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19280" y="1125360"/>
            <a:ext cx="5977080" cy="393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بناء المساكن بين الحاجة والترف .....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للشيخ / عبدالسلام برجس -رحمه الله-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2536920"/>
            <a:ext cx="21603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333360"/>
            <a:ext cx="7848360" cy="6048360"/>
          </a:xfrm>
          <a:prstGeom prst="rect">
            <a:avLst/>
          </a:prstGeom>
          <a:gradFill rotWithShape="0">
            <a:gsLst>
              <a:gs pos="0">
                <a:srgbClr val="aa845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e85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ية كريمة في سورة الشعراء، استوقفتني كثيراً، فيها عبرة، ونقد، وتوجيه: انها افتتاح الانتقادا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تي وجهها هود –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على نبينا وعليه الصلاة والسلام - الى قومه «عا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 بعد ان دعاهم الى الله، وأمرهم بطاعته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. وتتخذون مصانع لعلكم تخلدون. واذا بطشتم بطشتم جبارين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نه - عليه السلام - ينتقد عبثهم بالبنيان، والعبث بالبنيان: تشييده لمجرد التباهي بالقدرة عليه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رة جسمية في بنائ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عقلية في تصميمه وهندست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مالية في الانفاق عليه، فهو بناء لغير نفع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في هذا الانتقاد توجيه الى ان الجهد والبراعة وإنفاق المال انما يكون في البناء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ضروري المثمر خير الدين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سداد الدنيا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ذه الآية وجهت الى قوم «عاد» فما نصيبنا منها امة محمد صلى الله عليه وسلم؟ لبيان ذلك انقل أثرين من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ثار سلفنا الصالح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ول: عن مجاهد بن جبر - المتوفى وهو ساجد بمكة المكرمة سنة 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10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 - حيث قال:«ليس احد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شبه فِعالاً بعاد من ا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ة محمد صلى الله عليه وسلم، قال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» فق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الله فعلوا. اخرجه ابن ابي حاتم في «تفسيره» «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9/279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ec85e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ثاني: ما أخرجه ابن ابي حاتم - ايضاً - في تفسيره عن عون بن عبدالله بن عتبة، ان ابا الدرداء رضي الله عنه لم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رأى ما احدث المسلمون في الغوطة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ن البنيان، ونصب الشجر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ام في مسجدهم، فنادى: يا اهل دمشق! فاجتمعوا اليه. فحمد الله، واثنى عليه، ثم قال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لا تستحيون الا تستحيون، تجمعون مالا تأكلون، وتبنون مالا تسكنون، وتؤملون مالا تدركون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 كانت قبلكم قرون يجمعون فيوعون، ويبنون فيوثقون، ويأملون فيطيلون، فأصبح املهم غروراً، وأصبح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جمعهم بوراً، واصبح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ساكنهم قبوراً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 إن عاداًَ ملكت ما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عدن وعمان خيلاً وركاباً من يشتري مني ميراث عاد بدرهمين؟ففي هذي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اثرين غنى عن التوسع في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تعليق عما نعايشه هذه الايام من البناء للتباهي 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 للسكن، ابتداء من شراء الارض، فأجره المهندس، فالنار المحرقة للمال «البناء» فالاثاث المكمل «للديكور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هلاً فانا لا اريد إنكار البناء، فهذا لا يقوله احد، انما اريد ان امنع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يديك ما جاء به دين الا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ملة محمد عليه الصلاة وال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في قضية البناء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جمع علماء المسلمين على انه يلزم كل امرىء تحصيل مسكن له، ولمن تلزمه نفقته فمن حص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مسكناً له ولأهله، ببناء بيت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و اكترائه، فقد سلم من الاثم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كما رغّب الاسلام في سعة البيوت بكبر مساحتها، حيث صحَّ عن النبي صلى الله عليه وسلم ان 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ن سعادة المرء المسك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واسع وان المسكن الضيق من الشقاء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333360"/>
            <a:ext cx="813600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3500000"/>
          </a:gradFill>
          <a:ln cap="rnd" w="76320">
            <a:solidFill>
              <a:srgbClr val="5e85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للاسلام موقف واضح من المساكن التي شيدت على اساس التفاخر والتباه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، أوجز ذلك الموق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الفقرات التالية: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ليس لمن بنى بيتاً من غير حاجة، اوفوق ما يحتاجه، اجر، لما في «الصحيحين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عن خباب بن الار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رضي الله عنه انه قال وهو يبني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حائطاً له «إن المرء المسلم يؤجر في نفقته كلها، ال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ي شيء يجعله في التراب» ورواه الترمذي مرفوعاً الى النبي صلى الله عليه وسلم من قوله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معنى «في التراب» اي البنيان الذي لم يقصد به وجه الله، وقد زاد على ما يحتاجه لنفسه و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ياله على الوجه اللائق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لبناء بهذه الصفة من علامات قرب الساعة، وزوال الدنيا. ودليل ذلك ما رواه البخاري 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ن ابي هريرة رضي الله عنه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ن رسول الله صلى الله عليه وسلم قال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« لا تقوم الساعة..وحتى يتطاول الناس في البنيان»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روى البخاري ايضاً في الادب المفرد عن ابي هريرة رضي الله عنه عن النبي صلى الله عليه وسلم انه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قال لا تقوم الساعة حتى يبن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اس بيوتاً يوشُّونها وشي المراحيل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ومعنى «يوشونها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28036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8456"/>
              </a:gs>
            </a:gsLst>
            <a:lin ang="13500000"/>
          </a:gradFill>
          <a:ln cap="rnd" w="7632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ينقشونها ويصبغونها بأنواع الالوان المختلفة كما تنقش الثياب والفرش ومعنى:«المراحيل» الثياب المنقوشة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بنقوش تشبه رحال الابل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3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خبر الصادق المصدوق عن حال الذين يبنون للمباهاة بما يردع غرورهم وتعاظمهم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في حديث عمر بن الخطاب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رضي الله عنه ا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بي صلى الله عليه وسلم اخبر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ن علامات الساعة فقال:«وان ترى الحفاة العراة العالة رعاء الشاء يتطاولون في البنيان».قال الحاف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بن رجب رحمه الله تعالى _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جامع العلوم والحكم «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/137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» والمراد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ن اسافل الناس يصيرون رؤساءهم، وتكثر اموالهم، حتى يتباهون بطول البنيان وزخرفته واتقانه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3:45:33Z</dcterms:created>
  <dc:creator>user</dc:creator>
  <dc:description/>
  <dc:language>en-US</dc:language>
  <cp:lastModifiedBy>user</cp:lastModifiedBy>
  <dcterms:modified xsi:type="dcterms:W3CDTF">2004-07-11T14:11:37Z</dcterms:modified>
  <cp:revision>6</cp:revision>
  <dc:subject/>
  <dc:title>Slide 1</dc:title>
</cp:coreProperties>
</file>